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6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CB2-D422-436E-B0AC-B7DE649B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582-0457-4A5A-8F6E-E77D0022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CAF6B-CBF7-41C7-9540-4C51EA42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AF170-1390-4CFB-81AB-D1DCB0A3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98720-E8F2-4FD3-BB66-BEE3F830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186ED-CB5D-44F2-AB06-2BC06542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244FB-A9AD-4282-AFC1-76FF05D1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622EA-12C1-4CCC-846A-8EB68965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CE194-3E66-445A-BCB5-8A3369C7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93497-58F8-4490-9D0E-C5E61052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9FC9F-E76F-48D7-B28D-B841DBBC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262CE-8D09-48AF-BB70-C23E56AD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76B-C57D-4EAD-9625-ED1EBF45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CDF4D-74D7-42FB-ADAA-AAD0D384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3D679-5F5A-4EAE-A5DA-D9AC9191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82B5D-ED94-43BD-A485-4710DEE6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98694-6103-4656-BE70-A0CBE5DD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E7429-2C77-470C-9122-B44886B2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EC950-BA44-48A0-8B67-6541694C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AE91E-D246-4210-879B-A76D18B9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88655-4016-44F0-85EA-D7A189F9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B0435-C0CF-444B-AF6B-03A6980D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B759A-C959-4653-8C8C-FAE00BD3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ECF-F303-482E-962D-C394CC32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A02D4-C046-4A69-891F-0C35FD3A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31076-B646-41CC-BCEA-03FCFA85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DF29B-4049-45F2-90B5-0DDC4C44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C4BD9-DBD8-4AC9-AF02-E99716B6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137F4-F1C1-4B89-9711-78BE4339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65959-F4B9-46F9-8D80-94225100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59F30-BA85-490F-8EC3-082EDE2E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85B21-1341-4514-8414-3BA51F34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AE762-1066-4B7E-996B-ABAA23AC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18765-B925-4E3F-B8D2-FCCB4234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5442-948F-4BCE-9A9A-EF884E87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5E9CC-FD51-4D49-A473-4421A8D6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CA1D3-6234-45B5-B4C6-F91559DF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044F6-466B-488D-9CFC-EC60A912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B09CA-296C-4FA2-8F57-DCFA9FA0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47A5A-5E21-453B-9E16-70E352F3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0BEAA-7F72-4102-80F0-A4139807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2D49B-3E64-49D0-8F3C-B8BAF7F7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43C7D-336A-40A7-B803-4B343A8F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E6FB6-61CC-4A4F-83E9-4B6D83C8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BD3C2-825E-41C6-8A62-ABFCCF27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9041-8F42-43DE-AE2B-0C5111F5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C57E4-401C-4957-802F-D4E8D925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7B077-7B6C-4A3D-AF49-114318D1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F806C-F0CC-4035-A711-4C7E6177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7C591-D98C-49D1-86B2-123C0D2A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B760F-E166-49DF-8C1B-11AD8653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C8196E-D6E8-4729-B58D-4DB76B1A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F5580-D561-4599-BB7B-74861751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0B348-008E-4BB6-80B5-3AD37984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1F13C-F501-4083-84CE-E604B3CF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7A068-ED80-4575-8B40-085D4947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5E11-EAB6-4748-BA58-3E8BD5C5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26CD2-1E05-4887-819B-DAED4814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7E120-1C78-45A6-88E4-CB43215C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443DB-58F5-48FA-9205-21CDFBEC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CCC58-86DF-490A-B410-B955543D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57010-7A68-442F-BA68-A4E304A5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3A51B-79B7-40CF-86F9-E8C08921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D2D61-825F-43D9-939A-6A681FC7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4B136D-C09E-4C05-AB61-5AC363B9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A195A-891E-4C07-9B5E-854BDA66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2E250-B9DB-4A21-B57C-6715200A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7755-BE14-41B5-86AD-12C1D9B2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8DA3B-A7D6-43BC-A61D-98C2DF99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439C04-6601-44EC-B454-68980A4F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99D7AC-E99C-4BA2-90D8-3651F907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52D95-7C32-49ED-9E06-C50F0469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77E10-644D-41F0-9451-330F9095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076CF-1FE7-45FD-9C05-8AFE1185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832B1F-7E94-4E12-A8A7-4BB7B2B2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B8944-D3D8-46A7-8E73-B3FC8CA1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1BF47-7912-45B5-BA77-35B17DC5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6E7C9-C802-4B6A-9DDB-49617B21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485A-847E-4393-96B7-357F7D6F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23D6E1-61C4-45AB-900E-619F0D00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33EEA3-0E53-4628-959E-762CA7A9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713056-6DBE-4225-9C19-85F1A8C8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28B013-A0E7-4F51-88F4-3DEADA00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AC1C7-17F4-4D39-AEAD-50B80423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679BA-7DD7-4C7E-AB45-25366EF3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D4711-3E05-4591-96C6-2A555E75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41C37D-FBC4-42B5-8A10-2022F918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0E4433-9EDC-411A-BDA2-9B502985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354E53-EB62-4EB6-872D-993CD2CA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819B-C4F2-498E-95B1-36290E3B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6AC947-A008-40E2-B77D-8675856C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FEE94-DAD6-4D60-910E-56941E30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B1D575-2545-464B-9A03-164E0824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350EA4-DCB0-4A75-982E-4FF3411F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DC015-625D-42A0-86A3-780954F2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70DD7D-3D7D-477F-B507-C0267D55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E1C898-D3B5-4446-B8F1-1F8CE4B4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1F776-84C5-49E8-ADA3-37D06F5D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9E078B-121A-4548-9194-56A2C1E8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3EB6D-4B3B-4074-94F1-B354220C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4CD7-0F99-40A7-BE3E-C1D42F9C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3C533D-F1A8-4234-804B-DEEC4BD7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48D21C-0445-4157-862F-A17C7048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69A12-D7E3-4D3E-BD79-5C1AA55D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404-3FFE-48D6-9F91-E1C982BD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8A79-F3CC-4D78-9616-3828EC17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3C5C-07B2-4F34-8227-DB00AE69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DD8D-E40C-4678-9F46-755AC929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1797-3E29-45A3-AC6F-DF83245F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C9C2-EAE8-4367-BE34-FFC4EB06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338CA-32C1-469F-A15F-40F63346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0A48-935A-45D6-87C0-22D78526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21563-6D00-4C3F-A3D1-FEB49791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C08CE-B7A4-448B-828E-5614A4D7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A9B47-EE9D-45F2-AC9F-05A1EB92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FEA-773C-4331-AF6E-77A86AF2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62354-7951-48F3-86FF-157CBEDA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E14EF-860B-4415-BF4D-21B28952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EEEF8-591E-4DAF-A682-1AF0AFC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60D8-A7B5-4BC0-A17A-F9ACCDFB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80D3-B077-4159-97DA-ECB1851E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88EE9-8E1E-47B6-8C23-53E2C006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4D1D-8253-4C32-AA98-322CB389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E5F98-6825-46B5-9A0D-E67E661D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CE866-3BF5-4524-82C4-5314D0E5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C2C05-5D92-4D28-82F6-F89589D7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326-1074-4C37-84CB-E7BE3789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2E52F-4F3E-4339-809A-C284727B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D8537-9924-48AE-A6ED-0BEA8851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F9CC4-1898-4E8C-99DC-02AC9840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DA020-1E8B-475B-8EF7-0E46D3E5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644CD-22E5-45D8-B513-920B2F71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DF10F-1383-4B5F-95B8-2069C860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32DD1-6A5F-4FB0-8991-EF8EEB97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B457D-D8B4-4F1D-B897-D8920EFC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55FC5-95AC-49CC-8B1C-162BB61A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C967B-1CBB-45CC-A93C-23E1B245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78A-F6E9-460F-98C3-FFEC7533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B3A26-DA1C-4B0B-93E1-B15F47A3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10176-D1A7-4D8C-AEAB-F8D26F7A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300F7-0674-43E8-A533-F4D9AFE4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9ED46-EBA3-421C-A292-82B4047E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2C0D4-C92D-4B5E-8BC6-5C80638D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73E26-BDA8-4E82-B342-690A3FFB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BAB22-C5A6-428B-8C9B-12C23319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BD1BC-2E61-4237-9147-4AA775F8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FF79E-8E6A-4650-AFE7-3137C19E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69971-956F-4648-8786-EC49A830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07B-2A1B-4DA5-84E1-9E6D2415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70F0A-18B7-42DB-96DC-A0938A1A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F0EEA-981D-4E18-9858-E7F886CA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CE809-AEAD-412A-83B3-76B3B267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C93CE-0E71-46C2-8733-AE2DEDB2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5738C-3AD9-43D4-BEEE-72691A8E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7B81F-9E54-43B0-BFEA-B34B9C96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FCC59-313F-4C79-ABF4-D854090D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7E7BA-565E-4286-85D5-6A006E10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6E9BA-6048-4E47-AEFA-183735B1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E08FF-883A-4309-A55D-69602678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D87-3125-4CB2-891A-F61E8DEE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DF42E-4DEB-42C2-84A6-2C4A94C4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17ACE-8A93-413E-AD3A-3E4749C6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E50C7-6AE6-47B7-ACF5-922A37C6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78693-422D-4596-B0F9-7870C3EA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027BB-8E82-42C2-B347-B0388615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ADE5C-0975-4D22-A3C5-5E3967AC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79C22-0588-4194-BCCC-52660968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3E980-E340-4600-A752-7C98B4A7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FD834-C1E9-4047-858F-9FA8AAB1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217A2-612B-4394-8F60-D8AE84F4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B8B-5610-43A6-A6CF-083138F8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A92D4-F8F3-4D9C-9A62-FDAA1781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481F6-CDDC-4BB1-9D34-2150BADD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77DB2-AAFF-48A4-9B73-8C490118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E74F3-B02C-4018-8301-4754FCF6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AD304-1CE2-4566-8710-3894C191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E9832-EF93-4E34-96F0-2124E2D1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5ED90-CF43-4E37-881B-D073FE81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453C6-69B6-4308-ADED-D451B754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F7E05-6FA2-4AE4-AE1E-EEDE9443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A7590-FCB6-43A3-9FEA-FA57E437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D23-BC96-4BBC-9696-50FC036B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E7D4E-89C8-4ED1-B2F2-2B2705C6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18639-D8BC-45CE-AE2A-42D69F63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68448-78C6-4660-8CE0-DF04DC3A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9531F-35FF-4912-AFEF-FC564CD8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5EAE0-A082-4A87-871A-3B07FCFB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C553F-874A-4D65-B34E-52426816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83621-30BC-4171-8E38-C9BE0BC5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C2471-01BD-40AA-B9BD-ED50988B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C3E33-73FB-4040-BD53-F93B3A6E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F7E35-7FD8-4BFA-A4B1-2A17FA8B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4166-ABC2-47D1-869A-2679AF069EE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5E23-CE88-49BE-9F11-9320CA55466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1806-86B7-4E8A-BA8C-2EFFD497505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20D5-2B5F-427F-B025-51FC4B3E4CD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2532-524A-428B-A415-E4F2B08B1B0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7B5D-43B5-43EA-BC68-D05B7BC2B51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F3E1-9A2F-435D-A8E3-6CDC45A6936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9867-455A-4E8F-8540-051373563D1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A8AF-5706-4FFF-8A8B-34E0F951CC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2F83-EA7D-474E-A788-7F0118FBE36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47C7-F900-4631-A750-E553F50746C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C83C-5F28-495D-9D86-5836EC19095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99ED-3069-4536-A09F-BBDA108E0C9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F3F6-887A-41B5-A61C-24CAE7FD78A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8B0F-67AE-4B23-8756-2477C11A566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A3E4-C2CF-48F7-AB80-42841BBBB77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bionet-skola.com/w/Slika:Osmozaieritrociti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Rectangle 2" descr=""/>
          <p:cNvPicPr/>
          <p:nvPr/>
        </p:nvPicPr>
        <p:blipFill>
          <a:blip r:embed="rId1"/>
          <a:stretch/>
        </p:blipFill>
        <p:spPr>
          <a:xfrm>
            <a:off x="-1620720" y="1127160"/>
            <a:ext cx="8564400" cy="19209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4" descr="Animal Cells and the Membrane-Bound Nucleus"/>
          <p:cNvPicPr/>
          <p:nvPr/>
        </p:nvPicPr>
        <p:blipFill>
          <a:blip r:embed="rId2"/>
          <a:stretch/>
        </p:blipFill>
        <p:spPr>
          <a:xfrm>
            <a:off x="2556000" y="3130560"/>
            <a:ext cx="4968720" cy="37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1" lang="vi-VN" sz="5000" spc="-1" strike="noStrike">
                <a:solidFill>
                  <a:srgbClr val="04617b"/>
                </a:solidFill>
                <a:latin typeface="Arial"/>
              </a:rPr>
              <a:t>Prokaryotic ce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0" y="1916280"/>
            <a:ext cx="428472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ead differentiated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embrane-bou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number of organel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ibosomes) in the 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3" name="Picture 6" descr="Prokaryotic Cell: Definition, Examples, &amp; Structure"/>
          <p:cNvPicPr/>
          <p:nvPr/>
        </p:nvPicPr>
        <p:blipFill>
          <a:blip r:embed="rId1"/>
          <a:stretch/>
        </p:blipFill>
        <p:spPr>
          <a:xfrm>
            <a:off x="4235400" y="1700280"/>
            <a:ext cx="4692600" cy="4332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Eukaryotic ce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179280" y="1557360"/>
            <a:ext cx="662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5" descr="Prokaryotic Cell - Definition, Examples &amp; Structure | Biology Dictionary"/>
          <p:cNvPicPr/>
          <p:nvPr/>
        </p:nvPicPr>
        <p:blipFill>
          <a:blip r:embed="rId1"/>
          <a:stretch/>
        </p:blipFill>
        <p:spPr>
          <a:xfrm>
            <a:off x="4284720" y="2276640"/>
            <a:ext cx="4610160" cy="3809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 AND PLANT CE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8000" y="5229360"/>
            <a:ext cx="5148360" cy="13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elles pres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ly in a plan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9" name="Picture 7" descr="Plant vs. Animal Cells | Biology Dictionary"/>
          <p:cNvPicPr/>
          <p:nvPr/>
        </p:nvPicPr>
        <p:blipFill>
          <a:blip r:embed="rId1"/>
          <a:stretch/>
        </p:blipFill>
        <p:spPr>
          <a:xfrm>
            <a:off x="611280" y="1125360"/>
            <a:ext cx="7794360" cy="3780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811" name="Picture 5" descr="Cell Membrane Structure and Function - YouTube"/>
          <p:cNvPicPr/>
          <p:nvPr/>
        </p:nvPicPr>
        <p:blipFill>
          <a:blip r:embed="rId1"/>
          <a:stretch/>
        </p:blipFill>
        <p:spPr>
          <a:xfrm>
            <a:off x="539640" y="1989000"/>
            <a:ext cx="7380360" cy="4151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ipi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8000" y="1935000"/>
            <a:ext cx="56260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rane contai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spholip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have 2 part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(polar) – hydrophil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l (non-polar) –hydrophob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facing each other wi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hydrophobic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Glycolipi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Choleste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324000" y="5805360"/>
            <a:ext cx="7704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 and proteins are constantly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7" descr="4.7: Eukaryotic Cells - The Plasma Membrane and the Cytoplasm - Biology  LibreTexts"/>
          <p:cNvPicPr/>
          <p:nvPr/>
        </p:nvPicPr>
        <p:blipFill>
          <a:blip r:embed="rId1"/>
          <a:stretch/>
        </p:blipFill>
        <p:spPr>
          <a:xfrm>
            <a:off x="5076720" y="2421000"/>
            <a:ext cx="4067280" cy="274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teins</a:t>
            </a:r>
            <a:br>
              <a:rPr sz="32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and channels - participate in the transport of molecules through the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18" name="Picture 6" descr="Protein Function | Learn Science at Scitable"/>
          <p:cNvPicPr/>
          <p:nvPr/>
        </p:nvPicPr>
        <p:blipFill>
          <a:blip r:embed="rId1"/>
          <a:stretch/>
        </p:blipFill>
        <p:spPr>
          <a:xfrm>
            <a:off x="755640" y="4221000"/>
            <a:ext cx="7989840" cy="2637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Membrane transport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9640" y="2468520"/>
            <a:ext cx="822960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assive transport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takes place without energy consumption, due to the difference in concentration on one and the other side of the membr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ctive transpor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takes place with energy, against the concentration gradi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as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630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imple diffusion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transport through the membrane down the concentration gradient, until the concentrations are equalized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stances soluble in lipids, gas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Osmosis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diffusion of water through the membrane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posite to the concentration gradient (from lower to higher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Facilitated diffusion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transport of molecules through the membrane using carrier proteins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glucose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regulated by hormones (glucose-insulin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4" name="Picture 3" descr="300px-400px-Diffusion"/>
          <p:cNvPicPr/>
          <p:nvPr/>
        </p:nvPicPr>
        <p:blipFill>
          <a:blip r:embed="rId1">
            <a:lum contrast="60000"/>
          </a:blip>
          <a:srcRect l="0" t="0" r="0" b="19612"/>
          <a:stretch/>
        </p:blipFill>
        <p:spPr>
          <a:xfrm>
            <a:off x="6227640" y="1484280"/>
            <a:ext cx="2627280" cy="115272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5" descr="300px-Osmozaieritrociti">
            <a:hlinkClick r:id="rId2"/>
          </p:cNvPr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248520" y="3068640"/>
            <a:ext cx="2895480" cy="151452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6" descr="GB1-os19"/>
          <p:cNvPicPr/>
          <p:nvPr/>
        </p:nvPicPr>
        <p:blipFill>
          <a:blip r:embed="rId4">
            <a:lum contrast="6000"/>
          </a:blip>
          <a:srcRect l="0" t="21758" r="0" b="12803"/>
          <a:stretch/>
        </p:blipFill>
        <p:spPr>
          <a:xfrm>
            <a:off x="6180120" y="5281560"/>
            <a:ext cx="2963880" cy="1576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4537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dium-potassium pum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active transport of molecu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part with the lower to the part with the higher con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arrier protei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of energy (AT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Rectangle 4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7" descr="Sodium-Potassium pump which uses ATP to pump sodium ions out of the... |  Download Scientific Diagram"/>
          <p:cNvPicPr/>
          <p:nvPr/>
        </p:nvPicPr>
        <p:blipFill>
          <a:blip r:embed="rId1"/>
          <a:stretch/>
        </p:blipFill>
        <p:spPr>
          <a:xfrm>
            <a:off x="4716360" y="2133720"/>
            <a:ext cx="4176720" cy="417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ransport of large molecul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78120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ndocyt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hagocytosis, pinocytosis) - bringing molecules into the ce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ocyt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removing of undigested substances from the cell into the external environm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33" name="Picture 19" descr="image007"/>
          <p:cNvPicPr/>
          <p:nvPr/>
        </p:nvPicPr>
        <p:blipFill>
          <a:blip r:embed="rId1"/>
          <a:stretch/>
        </p:blipFill>
        <p:spPr>
          <a:xfrm>
            <a:off x="6372360" y="260280"/>
            <a:ext cx="2771640" cy="20829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24" descr="imag-endocistosis"/>
          <p:cNvPicPr/>
          <p:nvPr/>
        </p:nvPicPr>
        <p:blipFill>
          <a:blip r:embed="rId2"/>
          <a:stretch/>
        </p:blipFill>
        <p:spPr>
          <a:xfrm>
            <a:off x="6516720" y="4230720"/>
            <a:ext cx="2363760" cy="2627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ell is 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asic structural uni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all living organism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ell is 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mallest functional uni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can perform all life process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s the interior of the ce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tos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part of the cytoplasm in which they are locatedcell organelles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YTOSOL + ORGANELES = CYTOPLAS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37" name="Picture 5" descr="Cell parts and their functions | Cells and organisms | Middle school  biology | Khan Academy - YouTube"/>
          <p:cNvPicPr/>
          <p:nvPr/>
        </p:nvPicPr>
        <p:blipFill>
          <a:blip r:embed="rId1"/>
          <a:stretch/>
        </p:blipFill>
        <p:spPr>
          <a:xfrm>
            <a:off x="2685960" y="4437000"/>
            <a:ext cx="4046760" cy="2276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9" name="Rectangle 2"/>
          <p:cNvSpPr/>
          <p:nvPr/>
        </p:nvSpPr>
        <p:spPr>
          <a:xfrm>
            <a:off x="250920" y="4581360"/>
            <a:ext cx="482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s of eukaryotes (80S) consist of 2 subun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(60S)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(4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0" y="1700280"/>
            <a:ext cx="608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prokaryotic and eukaryotic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role in protein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in the cytoplas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outer nuclear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membrane of the granular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7" descr="Structure Eukaryotic Ribosome 80S Ribosome Showing Smaller and Larger  Subunit Stock Illustration - Illustration of microscopic, anatomy: 200726002"/>
          <p:cNvPicPr/>
          <p:nvPr/>
        </p:nvPicPr>
        <p:blipFill>
          <a:blip r:embed="rId1"/>
          <a:srcRect l="0" t="-1313" r="0" b="29713"/>
          <a:stretch/>
        </p:blipFill>
        <p:spPr>
          <a:xfrm>
            <a:off x="5003640" y="3862440"/>
            <a:ext cx="3961080" cy="2995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OPLASMATIC RETICULUME - E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843" name="Object 3"/>
          <p:cNvGraphicFramePr/>
          <p:nvPr/>
        </p:nvGraphicFramePr>
        <p:xfrm>
          <a:off x="2050920" y="3068640"/>
          <a:ext cx="315288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068640"/>
                    <a:ext cx="31528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Rectangle 3"/>
          <p:cNvSpPr/>
          <p:nvPr/>
        </p:nvSpPr>
        <p:spPr>
          <a:xfrm>
            <a:off x="108000" y="1557360"/>
            <a:ext cx="345600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ouge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s 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5364000" y="1413000"/>
            <a:ext cx="352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Smooth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 Е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, without 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of synthesis of lipids and steroid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onnected to the Golgi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s a role in regulating the level of Ca in muscle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49636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4900" spc="-1" strike="noStrike">
                <a:solidFill>
                  <a:srgbClr val="000000"/>
                </a:solidFill>
                <a:latin typeface="Arial"/>
              </a:rPr>
              <a:t>olgi apparatus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8" name="Rectangle 3"/>
          <p:cNvSpPr/>
          <p:nvPr/>
        </p:nvSpPr>
        <p:spPr>
          <a:xfrm>
            <a:off x="324000" y="2133720"/>
            <a:ext cx="8064360" cy="41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ory 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developed in glandular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f membranes – cis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role in the modification and sorting of macromolec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2" descr="Molecular Expressions Cell Biology: The Golgi Apparatus"/>
          <p:cNvPicPr/>
          <p:nvPr/>
        </p:nvPicPr>
        <p:blipFill>
          <a:blip r:embed="rId1"/>
          <a:stretch/>
        </p:blipFill>
        <p:spPr>
          <a:xfrm>
            <a:off x="5888160" y="1700280"/>
            <a:ext cx="325584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0" y="2468520"/>
            <a:ext cx="442764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rov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ell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ro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vel of wa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ther substances in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395280" y="1484280"/>
            <a:ext cx="3728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7" descr="Mitochondria: Form, function, and disease"/>
          <p:cNvPicPr/>
          <p:nvPr/>
        </p:nvPicPr>
        <p:blipFill>
          <a:blip r:embed="rId1"/>
          <a:stretch/>
        </p:blipFill>
        <p:spPr>
          <a:xfrm>
            <a:off x="4211640" y="1695600"/>
            <a:ext cx="4932360" cy="373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ucle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5363640" y="2060640"/>
            <a:ext cx="4038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plasm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romat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cleol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59" name="Picture 6" descr="Nucleus- Definition, Structure, Parts, Functions, Diagram"/>
          <p:cNvPicPr/>
          <p:nvPr/>
        </p:nvPicPr>
        <p:blipFill>
          <a:blip r:embed="rId1"/>
          <a:stretch/>
        </p:blipFill>
        <p:spPr>
          <a:xfrm>
            <a:off x="179280" y="1825560"/>
            <a:ext cx="5073840" cy="4105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210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elles present only in a plant cell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79280" y="2707920"/>
            <a:ext cx="8964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lipoprotein membrane and stro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osomes and circular DNA in the stro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 бит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 chlor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tain chlorophyll- participate in photosynthes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. chrom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tain carotenoids, yellow and orange pigments- they give color to the leaves in autum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cca62"/>
                </a:solidFill>
                <a:latin typeface="Arial"/>
              </a:rPr>
              <a:t>3. leuk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ithout pigment- synthesize starch, fats, protei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3" name="Picture 6" descr="Plastids - Definition, Classification, Structure, Functions - GeeksforGeeks"/>
          <p:cNvPicPr/>
          <p:nvPr/>
        </p:nvPicPr>
        <p:blipFill>
          <a:blip r:embed="rId1"/>
          <a:stretch/>
        </p:blipFill>
        <p:spPr>
          <a:xfrm>
            <a:off x="5580000" y="836640"/>
            <a:ext cx="3203640" cy="190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79280" y="2420640"/>
            <a:ext cx="4321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ole membrane – tonopl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sites of various metaboli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contain dissolved pig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6" name="Picture 6" descr="Molecular Expressions Cell Biology: Plant Cell Structure - Vacuoles"/>
          <p:cNvPicPr/>
          <p:nvPr/>
        </p:nvPicPr>
        <p:blipFill>
          <a:blip r:embed="rId1"/>
          <a:stretch/>
        </p:blipFill>
        <p:spPr>
          <a:xfrm>
            <a:off x="4606920" y="1773360"/>
            <a:ext cx="4537080" cy="4189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08000" y="234900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lamella (intercellular substanc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wall (cellulos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wall (when the cell stops growing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9" name="Picture 6" descr="Cell Wall - Definition, Cell Wall Function, Cell Wall Layers"/>
          <p:cNvPicPr/>
          <p:nvPr/>
        </p:nvPicPr>
        <p:blipFill>
          <a:blip r:embed="rId1"/>
          <a:stretch/>
        </p:blipFill>
        <p:spPr>
          <a:xfrm>
            <a:off x="539640" y="4714920"/>
            <a:ext cx="4287960" cy="214308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8" descr="Cell Wall: Definition, Structure, &amp; Functions with Diagram"/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529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 THEORY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organism is made up of one or more cell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the basic units of an organism's structure and function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created by the division of mother cell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versity of the cells of an organism is the result of differences in: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organiz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structure of the cell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lements in the cell - biogenic element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elements (O, C, H, N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elements (Fe, Mn, Cu...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Inorganic compound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792" name="Picture 4" descr="mini-2"/>
          <p:cNvPicPr/>
          <p:nvPr/>
        </p:nvPicPr>
        <p:blipFill>
          <a:blip r:embed="rId1"/>
          <a:stretch/>
        </p:blipFill>
        <p:spPr>
          <a:xfrm>
            <a:off x="9058320" y="382284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0701"/>
                </a:solidFill>
                <a:latin typeface="Arial"/>
              </a:rPr>
              <a:t>Wa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main component, makes up 50-95% of the cell's weight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water in the cell depends on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ctivities of the cell (tooth dentin 10% water) and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a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water is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solv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environment for metabolic reaction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regulation and osmoregulation</a:t>
            </a:r>
            <a:r>
              <a:rPr b="0" lang="en-US" sz="2400" spc="-1" strike="noStrike">
                <a:solidFill>
                  <a:srgbClr val="f9070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norganic sal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ons (chlorides, carbonates, phosphates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ions (K+, Na+, Ca2+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oluble precipitates in the cel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Organic compoun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539640" y="2636640"/>
            <a:ext cx="822960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bohydrates [sugars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pids [fats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cleic acids [DNA and RNA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types of cel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mplexity of the structure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76000" y="2923920"/>
            <a:ext cx="648972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karyotic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4:06:49Z</dcterms:created>
  <dc:creator>User</dc:creator>
  <dc:description/>
  <dc:language>en-US</dc:language>
  <cp:lastModifiedBy>Korisnik</cp:lastModifiedBy>
  <dcterms:modified xsi:type="dcterms:W3CDTF">2022-10-03T12:45:18Z</dcterms:modified>
  <cp:revision>108</cp:revision>
  <dc:subject/>
  <dc:title>ĆELIJA</dc:title>
</cp:coreProperties>
</file>